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58332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25E4-C060-4730-AED4-4963402CEA5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8534520" y="6400800"/>
            <a:ext cx="44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D00C-B6A8-4A5C-A708-B3473327574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34240" y="658332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edbodmer.com</a:t>
            </a:r>
            <a:endParaRPr b="0" lang="en-US" sz="1200" spc="-1" strike="noStrike">
              <a:solidFill>
                <a:srgbClr val="000000"/>
              </a:solidFill>
              <a:latin typeface="Arial"/>
            </a:endParaRPr>
          </a:p>
        </p:txBody>
      </p:sp>
      <p:sp>
        <p:nvSpPr>
          <p:cNvPr id="52" name="Text Box 9"/>
          <p:cNvSpPr/>
          <p:nvPr/>
        </p:nvSpPr>
        <p:spPr>
          <a:xfrm>
            <a:off x="73681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3FBE-9F49-42E2-926A-C315DE37608F}" type="datetime5">
              <a:rPr b="1" lang="en-US" sz="1200" spc="-1" strike="noStrike">
                <a:solidFill>
                  <a:srgbClr val="ffffff"/>
                </a:solidFill>
                <a:latin typeface="Arial"/>
              </a:rPr>
              <a:t>Jul 30, 2026</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icity Prices Analysis – Part 2</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iability Value of Capacity</a:t>
            </a:r>
            <a:endParaRPr b="1" lang="en-US" sz="19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762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Value of Capacity is:</a:t>
            </a:r>
            <a:endParaRPr b="0" lang="en-US" sz="18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ult of the scarcity of generation capacity</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asure of the degree to which reliability is compromised</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increased reliability created by adding capacity</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to consumers of avoiding service interruption</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age Cost and Interruptible Rates</a:t>
            </a:r>
            <a:endParaRPr b="1" lang="en-US" sz="28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c analysis of interruptible rates can be used to evaluate the impacts of traditional administrative rules that capacity should be constructed to meet a “one day in ten years loss of load criteria.”  Because there are 24 hours in a day, the one day in ten years is equivalent to an outage rate of 2.4 hours per year.  Given the cost of constructing peaking capacity, the implied price per MWH for reliable hours can be determined.  Using the cost assumptions discussed above for a combustion turbine, this results in the following formula:</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 Price/MWH  = (Fixed Cost)/2.4 Hours + Variable Co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st is $13,958/MWh for 2.4 hours and the variable cost is $39/MWH, implying a total cost of $13,996/MWh.  This means if one believes the one day in ten rule is an appropriate reliability criteria, we believe the value of power during 2.4 hours of outage is about $14,000/MWH.  The $1,000/MWh price spikes don’t seem so high in this contex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eoffs in Designing Capacity Markets</a:t>
            </a:r>
            <a:endParaRPr b="1" lang="en-US" sz="28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markets from around the world demonstrate that no single market model has been adopted.  Market implementation involves tradeoffs betwee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ow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interference to promote efficiency</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Development with Markets</a:t>
            </a:r>
            <a:endParaRPr b="1" lang="en-US" sz="18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level of capac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s to providers of capita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t spot and forward pric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efficient outco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at marginal cos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mix and amount of capac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 customers to efficiently use electric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incentives to locate plants in best reg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efficient operation of generating plant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Only Markets, Price Spikes and Price Caps</a:t>
            </a:r>
            <a:endParaRPr b="1" lang="en-US" sz="18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like price spikes</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peaking plant has a cost of $350/kW and prices reach $10,000/MWH for a single hour, that hour produces a value of about $10/kW.  If the $10,000/MWH price lasts for all 24 hours of a day, the value produced from the price spike is 24 x $10/kW or $240/kW. </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 is that demand bids determine prices during constrained periods</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spikes are associated with market power and significant economic dislocation.</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compensation for price spikes, prices caps can be implemente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caps discourage peaking capacity and favour baseload capacity</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caps can result in too little capacity being develope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do not generally like price caps</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alled Capacity Markets</a:t>
            </a:r>
            <a:endParaRPr b="1" lang="en-US" sz="2800" spc="-1" strike="noStrike">
              <a:solidFill>
                <a:srgbClr val="000000"/>
              </a:solidFill>
              <a:latin typeface="Arial"/>
            </a:endParaRPr>
          </a:p>
        </p:txBody>
      </p:sp>
      <p:sp>
        <p:nvSpPr>
          <p:cNvPr id="1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Market for Capacity and Energ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Market Driven by Administrative Reserve Margin Requirement</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forcing capacity in the market, energy markets will not have price spike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et the level of reliabilit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between capacity and energy market</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e capacity prices when there is excess capacit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apacity markets have near zero price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2"/>
          <p:cNvGraphicFramePr/>
          <p:nvPr/>
        </p:nvGraphicFramePr>
        <p:xfrm>
          <a:off x="285840" y="3314880"/>
          <a:ext cx="3981240" cy="2993760"/>
        </p:xfrm>
        <a:graphic>
          <a:graphicData uri="http://schemas.openxmlformats.org/presentationml/2006/ole">
            <p:oleObj progId="Excel.Sheet.12" r:id="rId1" spid="">
              <p:embed/>
              <p:pic>
                <p:nvPicPr>
                  <p:cNvPr id="120" name="Object 2" descr=""/>
                  <p:cNvPicPr/>
                  <p:nvPr/>
                </p:nvPicPr>
                <p:blipFill>
                  <a:blip r:embed="rId2"/>
                  <a:stretch/>
                </p:blipFill>
                <p:spPr>
                  <a:xfrm>
                    <a:off x="285840" y="3314880"/>
                    <a:ext cx="3981240" cy="2993760"/>
                  </a:xfrm>
                  <a:prstGeom prst="rect">
                    <a:avLst/>
                  </a:prstGeom>
                  <a:ln w="0">
                    <a:noFill/>
                  </a:ln>
                </p:spPr>
              </p:pic>
            </p:oleObj>
          </a:graphicData>
        </a:graphic>
      </p:graphicFrame>
      <p:graphicFrame>
        <p:nvGraphicFramePr>
          <p:cNvPr id="121" name="Object 3"/>
          <p:cNvGraphicFramePr/>
          <p:nvPr/>
        </p:nvGraphicFramePr>
        <p:xfrm>
          <a:off x="4419720" y="3581280"/>
          <a:ext cx="4343400" cy="2635200"/>
        </p:xfrm>
        <a:graphic>
          <a:graphicData uri="http://schemas.openxmlformats.org/presentationml/2006/ole">
            <p:oleObj progId="Excel.Sheet.12" r:id="rId3" spid="">
              <p:embed/>
              <p:pic>
                <p:nvPicPr>
                  <p:cNvPr id="122" name="Object 3" descr=""/>
                  <p:cNvPicPr/>
                  <p:nvPr/>
                </p:nvPicPr>
                <p:blipFill>
                  <a:blip r:embed="rId4"/>
                  <a:stretch/>
                </p:blipFill>
                <p:spPr>
                  <a:xfrm>
                    <a:off x="4419720" y="3581280"/>
                    <a:ext cx="4343400" cy="2635200"/>
                  </a:xfrm>
                  <a:prstGeom prst="rect">
                    <a:avLst/>
                  </a:prstGeom>
                  <a:ln w="0">
                    <a:noFill/>
                  </a:ln>
                </p:spPr>
              </p:pic>
            </p:oleObj>
          </a:graphicData>
        </a:graphic>
      </p:graphicFrame>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e Margin  -- Base Case Driven by Reserve Margin</a:t>
            </a:r>
            <a:endParaRPr b="1" lang="en-US" sz="2800" spc="-1" strike="noStrike">
              <a:solidFill>
                <a:srgbClr val="000000"/>
              </a:solidFill>
              <a:latin typeface="Arial"/>
            </a:endParaRPr>
          </a:p>
        </p:txBody>
      </p:sp>
      <p:pic>
        <p:nvPicPr>
          <p:cNvPr id="124" name="Picture 5" descr=""/>
          <p:cNvPicPr/>
          <p:nvPr/>
        </p:nvPicPr>
        <p:blipFill>
          <a:blip r:embed="rId5"/>
          <a:stretch/>
        </p:blipFill>
        <p:spPr>
          <a:xfrm>
            <a:off x="3048120" y="1143000"/>
            <a:ext cx="4267080" cy="21747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Uplift Markets</a:t>
            </a:r>
            <a:endParaRPr b="1" lang="en-US" sz="2800" spc="-1" strike="noStrike">
              <a:solidFill>
                <a:srgbClr val="000000"/>
              </a:solidFill>
              <a:latin typeface="Arial"/>
            </a:endParaRPr>
          </a:p>
        </p:txBody>
      </p:sp>
      <p:sp>
        <p:nvSpPr>
          <p:cNvPr id="126" name="PlaceHolder 2"/>
          <p:cNvSpPr>
            <a:spLocks noGrp="1"/>
          </p:cNvSpPr>
          <p:nvPr>
            <p:ph/>
          </p:nvPr>
        </p:nvSpPr>
        <p:spPr>
          <a:xfrm>
            <a:off x="762120" y="1523880"/>
            <a:ext cx="4473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Energy-only, but adds capacity price that is administratively determined</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in cost-based system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 formula</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LP x (VOLL – SMP)</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versy in determining VOLL</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atility still exists because of variation in LOLP</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Determination of VOLL distorts market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 high VOLL creates excess capacity</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 low VOLL results in deficient capac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7" name="Picture 4" descr=""/>
          <p:cNvPicPr/>
          <p:nvPr/>
        </p:nvPicPr>
        <p:blipFill>
          <a:blip r:embed="rId1"/>
          <a:stretch/>
        </p:blipFill>
        <p:spPr>
          <a:xfrm>
            <a:off x="5334120" y="2362320"/>
            <a:ext cx="3276360" cy="2516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ateral Contracts</a:t>
            </a:r>
            <a:endParaRPr b="1" lang="en-US" sz="28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ngle most important factor in prompting development of MPP’s in the current financial market environment is the existence of contracts.  Risks of volatile market prices (or spark spreads) are the primary source of risk to a plan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contracts moderate this risk can prompt development of new capacit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chant plants have generally required some sort of contract support.</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in a market environment with risks of price and dispatch (volume), bilateral contracts and tolling arrangements will probably be necessary to materially reduce the risk of revenue volatility for owners and operators of single-asset plants.  Indeed, if a plant does not have a contract it probably cannot be developed, especially for single-asset plants that have no portfolio diversification.  With contracts, MPPs have obtained fairly high debt leverage even with low debt-service coverage ratio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ateral Contracts and Price Volatility</a:t>
            </a:r>
            <a:endParaRPr b="1" lang="en-US" sz="1800" spc="-1" strike="noStrike">
              <a:solidFill>
                <a:srgbClr val="000000"/>
              </a:solidFill>
              <a:latin typeface="Arial"/>
            </a:endParaRPr>
          </a:p>
        </p:txBody>
      </p:sp>
      <p:pic>
        <p:nvPicPr>
          <p:cNvPr id="131" name="Picture 4" descr=""/>
          <p:cNvPicPr/>
          <p:nvPr/>
        </p:nvPicPr>
        <p:blipFill>
          <a:blip r:embed="rId1"/>
          <a:stretch/>
        </p:blipFill>
        <p:spPr>
          <a:xfrm>
            <a:off x="5486400" y="1066680"/>
            <a:ext cx="3124080" cy="1584360"/>
          </a:xfrm>
          <a:prstGeom prst="rect">
            <a:avLst/>
          </a:prstGeom>
          <a:ln w="0">
            <a:noFill/>
          </a:ln>
        </p:spPr>
      </p:pic>
      <p:sp>
        <p:nvSpPr>
          <p:cNvPr id="132" name="PlaceHolder 2"/>
          <p:cNvSpPr>
            <a:spLocks noGrp="1"/>
          </p:cNvSpPr>
          <p:nvPr>
            <p:ph/>
          </p:nvPr>
        </p:nvSpPr>
        <p:spPr>
          <a:xfrm>
            <a:off x="838080" y="2742840"/>
            <a:ext cx="7772400" cy="3352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off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from bilateral contract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amount determined by contract price – can lead to excess capacity</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mix determined by contract price – can lead to too much CC capacity</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 do not make decisions from spot pric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s from bilateral contract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impacts of price volatility on custom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used to limit market power because long-term contracts can be cost-based</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s</a:t>
            </a:r>
            <a:endParaRPr b="1" lang="en-US" sz="2800" spc="-1" strike="noStrike">
              <a:solidFill>
                <a:srgbClr val="000000"/>
              </a:solidFill>
              <a:latin typeface="Arial"/>
            </a:endParaRPr>
          </a:p>
        </p:txBody>
      </p:sp>
      <p:sp>
        <p:nvSpPr>
          <p:cNvPr id="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Response and Demand Elasticit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Elasticity Simulation</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eaking Capacity with Different Elasticit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apacity Additions with Different Demand Elasticity</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Pricing</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odels</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Pricing</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Resources</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Value</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Value</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Plants Valued as Call Option</a:t>
            </a:r>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cade of Effects of Bilateral Contracts and Credit of Off-takers</a:t>
            </a:r>
            <a:endParaRPr b="1" lang="en-US" sz="18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bilateral contracts the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ust be a credit worthy off-tak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contract prices WILL be out of the market over the life of the contract, the off-taker must have protection against customers loss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 turn means that some customers cannot have the choice to switch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ingapore: 10 year contracts, domestic customers non contestable so that contracts can be supported.  Singapore power is AAA rated credi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need for Creditworthy Off-taker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x faced a financial crisis late last year after it lost its most lucrative sales contract, held with bust utility TXU Europe.  The loss of the contract left Drax exposed to spot power prices which have fallen sharply since the late 1990s because of increased competit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LE and Cost of CC</a:t>
            </a:r>
            <a:endParaRPr b="1" lang="en-US" sz="2800" spc="-1" strike="noStrike">
              <a:solidFill>
                <a:srgbClr val="000000"/>
              </a:solidFill>
              <a:latin typeface="Arial"/>
            </a:endParaRPr>
          </a:p>
        </p:txBody>
      </p:sp>
      <p:pic>
        <p:nvPicPr>
          <p:cNvPr id="136" name="Picture 3" descr=""/>
          <p:cNvPicPr/>
          <p:nvPr/>
        </p:nvPicPr>
        <p:blipFill>
          <a:blip r:embed="rId1"/>
          <a:stretch/>
        </p:blipFill>
        <p:spPr>
          <a:xfrm>
            <a:off x="3641760" y="1589040"/>
            <a:ext cx="2087640" cy="444024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Market Analysis Using Simulation Models</a:t>
            </a:r>
            <a:endParaRPr b="1" lang="en-US" sz="1800" spc="-1" strike="noStrike">
              <a:solidFill>
                <a:srgbClr val="000000"/>
              </a:solidFill>
              <a:latin typeface="Arial"/>
            </a:endParaRPr>
          </a:p>
        </p:txBody>
      </p:sp>
      <p:sp>
        <p:nvSpPr>
          <p:cNvPr id="138" name="PlaceHolder 2"/>
          <p:cNvSpPr>
            <a:spLocks noGrp="1"/>
          </p:cNvSpPr>
          <p:nvPr>
            <p:ph/>
          </p:nvPr>
        </p:nvSpPr>
        <p:spPr>
          <a:xfrm>
            <a:off x="762120" y="1523520"/>
            <a:ext cx="5378400" cy="19465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graph illustrates how alternative models can be compared to a “perfect market” to evaluate the cost of different systems </a:t>
            </a:r>
            <a:endParaRPr b="0" lang="en-US" sz="1400" spc="-1" strike="noStrike">
              <a:solidFill>
                <a:srgbClr val="000000"/>
              </a:solidFill>
              <a:latin typeface="Arial"/>
            </a:endParaRPr>
          </a:p>
        </p:txBody>
      </p:sp>
      <p:pic>
        <p:nvPicPr>
          <p:cNvPr id="139" name="Picture 4" descr=""/>
          <p:cNvPicPr/>
          <p:nvPr/>
        </p:nvPicPr>
        <p:blipFill>
          <a:blip r:embed="rId1"/>
          <a:stretch/>
        </p:blipFill>
        <p:spPr>
          <a:xfrm>
            <a:off x="2286000" y="2743200"/>
            <a:ext cx="4991040" cy="30225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 Pricing Analysis</a:t>
            </a:r>
            <a:endParaRPr b="1" lang="en-US" sz="2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a:t>
            </a:r>
            <a:endParaRPr b="1" lang="en-US" sz="28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s with Transmiss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many zones and nodes to promote signals for generation and transmission construction) versus transaction costs and complex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transmission righ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Conflicts – Zones and Nodes create winners in low cost zones and losers in high cost zon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of Open Acces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and marginal cost of transmission</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l Marginal Pricing</a:t>
            </a:r>
            <a:endParaRPr b="1" lang="en-US" sz="28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l Marginal Price (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serve the next MW of load at a specific location, using the lowest production cost of all available generation, while observing all transmission limi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es</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chanics of LMP</a:t>
            </a:r>
            <a:endParaRPr b="1" lang="en-US" sz="28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s get paid the nodal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are weighted on an aveage baisis. Prices for loads.  Generator gets paid different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zon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financial transmission rights between two area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the cost of dispatch is $60 in another area and $70 for you.  You could obtain access the $60 area with transmission righ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get revenues say $10 on the loa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based pricing needed for short-run efficienc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regarding imports/export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gam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incentives for generation and transmission siting and expans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table spot price</a:t>
            </a:r>
            <a:endParaRPr b="0" lang="en-US" sz="1800" spc="-1" strike="noStrike">
              <a:solidFill>
                <a:srgbClr val="000000"/>
              </a:solidFill>
              <a:latin typeface="Arial"/>
            </a:endParaRPr>
          </a:p>
        </p:txBody>
      </p:sp>
      <p:sp>
        <p:nvSpPr>
          <p:cNvPr id="149"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Based Congestion Pricing</a:t>
            </a:r>
            <a:endParaRPr b="1"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l Marginal Prices</a:t>
            </a:r>
            <a:endParaRPr b="1" lang="en-US" sz="28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ansmission systems become fully loaded ("congested"), wholesale pricing would be based on the highest cost generator in a utility's territory.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ocational Marginal Pricing" reflects the true value of generating and transmission assets. Congestion Revenue Rights (CRRs; also called financial transmission rights, or transmission congestion contracts/auctions) would be available to LSEs to avoid Locational Marginal Pricing (LMP) by securing transmission capacity in advance.</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 Implications</a:t>
            </a:r>
            <a:endParaRPr b="1" lang="en-US" sz="2800" spc="-1" strike="noStrike">
              <a:solidFill>
                <a:srgbClr val="000000"/>
              </a:solidFill>
              <a:latin typeface="Arial"/>
            </a:endParaRPr>
          </a:p>
        </p:txBody>
      </p:sp>
      <p:pic>
        <p:nvPicPr>
          <p:cNvPr id="153" name="Picture 3" descr=""/>
          <p:cNvPicPr/>
          <p:nvPr/>
        </p:nvPicPr>
        <p:blipFill>
          <a:blip r:embed="rId1"/>
          <a:stretch/>
        </p:blipFill>
        <p:spPr>
          <a:xfrm>
            <a:off x="717480" y="1068480"/>
            <a:ext cx="7707240" cy="74520"/>
          </a:xfrm>
          <a:prstGeom prst="rect">
            <a:avLst/>
          </a:prstGeom>
          <a:ln w="0">
            <a:noFill/>
          </a:ln>
        </p:spPr>
      </p:pic>
      <p:sp>
        <p:nvSpPr>
          <p:cNvPr id="1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ity of the Cost of Power under LMP is the cost of energy no matter what Zone your municipal is located i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ricing  is now a function of Natural Gas Prices – Increased costs are tied to constraints on Natural Ga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a Transmission constraint exists – the LMP Prices should only differ by marginal losses – the Duration of the constraint should self-correct quickly</a:t>
            </a:r>
            <a:endParaRPr b="0" lang="en-US" sz="1600" spc="-1" strike="noStrike">
              <a:solidFill>
                <a:srgbClr val="000000"/>
              </a:solidFill>
              <a:latin typeface="Arial"/>
            </a:endParaRPr>
          </a:p>
          <a:p>
            <a:pPr marL="3430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Pricing</a:t>
            </a:r>
            <a:endParaRPr b="1"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80880" y="1523520"/>
            <a:ext cx="8423280" cy="4800600"/>
          </a:xfrm>
          <a:prstGeom prst="rect">
            <a:avLst/>
          </a:prstGeom>
          <a:noFill/>
          <a:ln w="0">
            <a:noFill/>
          </a:ln>
        </p:spPr>
        <p:txBody>
          <a:bodyPr lIns="92160" rIns="92160" tIns="46080" bIns="46080" anchor="t">
            <a:normAutofit/>
          </a:bodyPr>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rices at each location</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differences can reflect marginal losse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differences reflect the management of transmission constraint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tend to be lower in exporting regions and higher in importing region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entity sells or buys at the prices at its location or for self-schedules is charged the equivalent congestion cost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y collected by the Market Operator from buyers will normally exceed the money paid to sellers (the difference is the congestion rent and part of the congestion hedging process)</a:t>
            </a:r>
            <a:endParaRPr b="0" lang="en-US" sz="1600" spc="-1" strike="noStrike">
              <a:solidFill>
                <a:srgbClr val="000000"/>
              </a:solidFill>
              <a:latin typeface="Arial"/>
            </a:endParaRPr>
          </a:p>
        </p:txBody>
      </p:sp>
      <p:sp>
        <p:nvSpPr>
          <p:cNvPr id="156"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gestion management using</a:t>
            </a:r>
            <a:br>
              <a:rPr sz="2800"/>
            </a:br>
            <a:r>
              <a:rPr b="1" lang="en-US" sz="2800" spc="-1" strike="noStrike">
                <a:solidFill>
                  <a:srgbClr val="000000"/>
                </a:solidFill>
                <a:latin typeface="Arial"/>
              </a:rPr>
              <a:t>Locational Marginal Pricing (LMP)</a:t>
            </a:r>
            <a:endParaRPr b="1"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s</a:t>
            </a:r>
            <a:endParaRPr b="1" lang="en-US" sz="2800" spc="-1" strike="noStrike">
              <a:solidFill>
                <a:srgbClr val="000000"/>
              </a:solidFill>
              <a:latin typeface="Arial"/>
            </a:endParaRPr>
          </a:p>
        </p:txBody>
      </p:sp>
      <p:sp>
        <p:nvSpPr>
          <p:cNvPr id="1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1: If regional supply and demand is the same, transmission constraints are irrelev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2: Basis differentials are driven by supply and demand variations combined with transmission constrai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3: The supply curve should be shifted for transmission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4: Physical constraints should be represented by movements along the supply cur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5: There is only one logical direction of flows on a transmission line at a point in time, driven by economic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6: Regional differentials should decline over time from new capacity additions</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1</a:t>
            </a:r>
            <a:endParaRPr b="1" lang="en-US" sz="2800" spc="-1" strike="noStrike">
              <a:solidFill>
                <a:srgbClr val="000000"/>
              </a:solidFill>
              <a:latin typeface="Arial"/>
            </a:endParaRPr>
          </a:p>
        </p:txBody>
      </p:sp>
      <p:sp>
        <p:nvSpPr>
          <p:cNvPr id="1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1: If regional supply and demand is the same, transmission constraints are irrelev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difference in the level and shape of the supply curve relative to the demand level in a particular hour for two geographic regions, the availability and the price of transmission are irrelevant to computation of market clearing price levels.  In other words, if demand and supply levels result in prices that are identical between two regions in the absence of any transactions, transmission issues do not have to be considered from a forward price perspective.  A corollary to the fact that transmission does not matter when supply and demand conditions generate the same price in two regions is that the same forward prices will result from alternative market definition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2</a:t>
            </a:r>
            <a:endParaRPr b="1" lang="en-US" sz="2800" spc="-1" strike="noStrike">
              <a:solidFill>
                <a:srgbClr val="000000"/>
              </a:solidFill>
              <a:latin typeface="Arial"/>
            </a:endParaRPr>
          </a:p>
        </p:txBody>
      </p:sp>
      <p:sp>
        <p:nvSpPr>
          <p:cNvPr id="1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2: Basis differentials are driven by supply and demand variations combined with transmission constrai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upply and demand differences between two regions vary to the extent that different clearing prices arise, either transmission prices or physical transmission constraints can cause different market prices for different geographic regions.  These price difference are known as basis differentials.  In either of these situations, increased model accuracy can be obtained by simulating trades and transaction costs between reg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3</a:t>
            </a:r>
            <a:endParaRPr b="1" lang="en-US" sz="2800" spc="-1" strike="noStrike">
              <a:solidFill>
                <a:srgbClr val="000000"/>
              </a:solidFill>
              <a:latin typeface="Arial"/>
            </a:endParaRPr>
          </a:p>
        </p:txBody>
      </p:sp>
      <p:sp>
        <p:nvSpPr>
          <p:cNvPr id="1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3: The supply curve should be shifted for transmission pric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physical transmission constraints but  transmission prices exist for transactions, the market clearing price level for the importing region can modeled by adding transmission prices to the supply curve for the exporting region.  The volume of transactions will be reduced due to the shift in the supply curv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4</a:t>
            </a:r>
            <a:endParaRPr b="1" lang="en-US" sz="2800" spc="-1" strike="noStrike">
              <a:solidFill>
                <a:srgbClr val="000000"/>
              </a:solidFill>
              <a:latin typeface="Arial"/>
            </a:endParaRPr>
          </a:p>
        </p:txBody>
      </p:sp>
      <p:sp>
        <p:nvSpPr>
          <p:cNvPr id="1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4: Physical constraints should be represented by movements along the supply curv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transmission price, but there are physical constraints which limit the volume of otherwise economic transactions, the market prices of the importing and exporting region can be estimated by moving up the supply curve for the exporting region and down the supply curve for the importing reg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5</a:t>
            </a:r>
            <a:endParaRPr b="1" lang="en-US" sz="2800" spc="-1" strike="noStrike">
              <a:solidFill>
                <a:srgbClr val="000000"/>
              </a:solidFill>
              <a:latin typeface="Arial"/>
            </a:endParaRPr>
          </a:p>
        </p:txBody>
      </p:sp>
      <p:sp>
        <p:nvSpPr>
          <p:cNvPr id="1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5: There is only one logical direction of flows on a transmission line at a point in time, driven by economic condi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n economic perspective, the direction of flows between regions is entirely defined by the differential in regional prices that would arise from  different supply and demand conditions on an isolated basi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6</a:t>
            </a:r>
            <a:endParaRPr b="1" lang="en-US" sz="2800" spc="-1" strike="noStrike">
              <a:solidFill>
                <a:srgbClr val="000000"/>
              </a:solidFill>
              <a:latin typeface="Arial"/>
            </a:endParaRPr>
          </a:p>
        </p:txBody>
      </p:sp>
      <p:sp>
        <p:nvSpPr>
          <p:cNvPr id="1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6: Regional differentials should decline over time from new capacity addi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d patterns are reasonably similar in different regions, and if access to primary fuels is similar, basis differentials should disappear in the long run as existing capacity is replaced with new capacit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and Demand in Different Regions Drive Basis Price Differentials</a:t>
            </a:r>
            <a:endParaRPr b="1" lang="en-US" sz="1400" spc="-1" strike="noStrike">
              <a:solidFill>
                <a:srgbClr val="000000"/>
              </a:solidFill>
              <a:latin typeface="Arial"/>
            </a:endParaRPr>
          </a:p>
        </p:txBody>
      </p:sp>
      <p:pic>
        <p:nvPicPr>
          <p:cNvPr id="172" name="Picture 3" descr=""/>
          <p:cNvPicPr/>
          <p:nvPr/>
        </p:nvPicPr>
        <p:blipFill>
          <a:blip r:embed="rId1"/>
          <a:stretch/>
        </p:blipFill>
        <p:spPr>
          <a:xfrm>
            <a:off x="457200" y="1523880"/>
            <a:ext cx="7924680" cy="507852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Supply Constraints</a:t>
            </a:r>
            <a:endParaRPr b="1" lang="en-US" sz="2800" spc="-1" strike="noStrike">
              <a:solidFill>
                <a:srgbClr val="000000"/>
              </a:solidFill>
              <a:latin typeface="Arial"/>
            </a:endParaRPr>
          </a:p>
        </p:txBody>
      </p:sp>
      <p:pic>
        <p:nvPicPr>
          <p:cNvPr id="174" name="Picture 3" descr=""/>
          <p:cNvPicPr/>
          <p:nvPr/>
        </p:nvPicPr>
        <p:blipFill>
          <a:blip r:embed="rId1"/>
          <a:stretch/>
        </p:blipFill>
        <p:spPr>
          <a:xfrm>
            <a:off x="533520" y="1447920"/>
            <a:ext cx="7848360" cy="5029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Capacity Price Analysis</a:t>
            </a:r>
            <a:endParaRPr b="1" lang="en-US" sz="2800" spc="-1" strike="noStrike">
              <a:solidFill>
                <a:srgbClr val="000000"/>
              </a:solidFill>
              <a:latin typeface="Arial"/>
            </a:endParaRPr>
          </a:p>
        </p:txBody>
      </p:sp>
      <p:sp>
        <p:nvSpPr>
          <p:cNvPr id="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and Capacity Pri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ibl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Outage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Load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ing Model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Demand From Transactions</a:t>
            </a:r>
            <a:endParaRPr b="1" lang="en-US" sz="1800" spc="-1" strike="noStrike">
              <a:solidFill>
                <a:srgbClr val="000000"/>
              </a:solidFill>
              <a:latin typeface="Arial"/>
            </a:endParaRPr>
          </a:p>
        </p:txBody>
      </p:sp>
      <p:pic>
        <p:nvPicPr>
          <p:cNvPr id="176" name="Picture 3" descr=""/>
          <p:cNvPicPr/>
          <p:nvPr/>
        </p:nvPicPr>
        <p:blipFill>
          <a:blip r:embed="rId1"/>
          <a:stretch/>
        </p:blipFill>
        <p:spPr>
          <a:xfrm>
            <a:off x="533520" y="1954080"/>
            <a:ext cx="7391160" cy="448164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Demand from Transactions with Other Regions</a:t>
            </a:r>
            <a:endParaRPr b="1" lang="en-US" sz="1800" spc="-1" strike="noStrike">
              <a:solidFill>
                <a:srgbClr val="000000"/>
              </a:solidFill>
              <a:latin typeface="Arial"/>
            </a:endParaRPr>
          </a:p>
        </p:txBody>
      </p:sp>
      <p:pic>
        <p:nvPicPr>
          <p:cNvPr id="178" name="Picture 3" descr=""/>
          <p:cNvPicPr/>
          <p:nvPr/>
        </p:nvPicPr>
        <p:blipFill>
          <a:blip r:embed="rId1"/>
          <a:stretch/>
        </p:blipFill>
        <p:spPr>
          <a:xfrm>
            <a:off x="685800" y="1828800"/>
            <a:ext cx="7772400" cy="452916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Financial Transmission Rights (“FTRs”)</a:t>
            </a:r>
            <a:endParaRPr b="1" lang="en-US" sz="28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rrangement that entitles the holder to receive a credit or be assessed a charge based on differences in Day-Ahead Locational Marginal Prices (LMPs) between two location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m of financial rights (not access related)</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arket participants to obtain transmission congestion price certainty</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short-term or long-term</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ed by allocation, auction or secondary market</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mechanism to distribute congestion rent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uch, FTRs represent an entitlement to a stream of revenues whose value is dictated by the occurrence of congestion and the differences in locational price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Rs hedge congestion, but not losses</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1"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304560"/>
            <a:ext cx="8458200" cy="825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Financial Transmission Rights (FTRs)</a:t>
            </a:r>
            <a:endParaRPr b="1" lang="en-US" sz="2800" spc="-1" strike="noStrike">
              <a:solidFill>
                <a:srgbClr val="000000"/>
              </a:solidFill>
              <a:latin typeface="Arial"/>
            </a:endParaRPr>
          </a:p>
        </p:txBody>
      </p:sp>
      <p:sp>
        <p:nvSpPr>
          <p:cNvPr id="1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TO sold simultaneously feasible FT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100 MW of the new 200 MW of Load at L</a:t>
            </a:r>
            <a:r>
              <a:rPr b="0" lang="en-US" sz="1800" spc="-1" strike="noStrike" baseline="-25000">
                <a:solidFill>
                  <a:srgbClr val="000000"/>
                </a:solidFill>
                <a:latin typeface="Arial"/>
              </a:rPr>
              <a:t>1</a:t>
            </a:r>
            <a:r>
              <a:rPr b="0" lang="en-US" sz="1800" spc="-1" strike="noStrike">
                <a:solidFill>
                  <a:srgbClr val="000000"/>
                </a:solidFill>
                <a:latin typeface="Arial"/>
              </a:rPr>
              <a:t> bought 100 MW of FTRs from Bus A to Bus B</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TR holder, this 100 MW of the new Load at L</a:t>
            </a:r>
            <a:r>
              <a:rPr b="0" lang="en-US" sz="1800" spc="-1" strike="noStrike" baseline="-25000">
                <a:solidFill>
                  <a:srgbClr val="000000"/>
                </a:solidFill>
                <a:latin typeface="Arial"/>
              </a:rPr>
              <a:t>1</a:t>
            </a:r>
            <a:r>
              <a:rPr b="0" lang="en-US" sz="1800" spc="-1" strike="noStrike">
                <a:solidFill>
                  <a:srgbClr val="000000"/>
                </a:solidFill>
                <a:latin typeface="Arial"/>
              </a:rPr>
              <a:t> would receive $530 [100 MW * ($27.3 - $22.0)/MWh], reducing its effective cost for that 100 MW to $22/MWh (plus the cost of the FTRs, if applic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30 would come out of the $2,552 of congestion rent collected by the RT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congestion rent would be used to pay other FTR holder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717480" y="1068480"/>
            <a:ext cx="7707240" cy="74520"/>
          </a:xfrm>
          <a:prstGeom prst="rect">
            <a:avLst/>
          </a:prstGeom>
          <a:ln w="0">
            <a:noFill/>
          </a:ln>
        </p:spPr>
      </p:pic>
      <p:sp>
        <p:nvSpPr>
          <p:cNvPr id="1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stion – Financial Transmission Rights (FTRs)</a:t>
            </a:r>
            <a:endParaRPr b="1" lang="en-US" sz="18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spect of the SMD – Financial Arrangement for Managing Conges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FTR is the “financial path” between two locations in the market for specific amount of M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R holder “owns” the difference between the LMPs on the path, in one direction only, in Day-Ahead Market on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ewable Analysi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Continued</a:t>
            </a:r>
            <a:endParaRPr b="1" lang="en-US" sz="2800" spc="-1" strike="noStrike">
              <a:solidFill>
                <a:srgbClr val="000000"/>
              </a:solidFill>
              <a:latin typeface="Arial"/>
            </a:endParaRPr>
          </a:p>
        </p:txBody>
      </p:sp>
      <p:sp>
        <p:nvSpPr>
          <p:cNvPr id="1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a market system affect renewable resourc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value of wind and other renewable resources in a market environment (how much subsidies are need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rading of CO2 affect energy market and plant val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market work given the isolation of South Korea (no transmission interconnections) and the energy security situ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markets compare in terms of the economics of renewable energy without subsidie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Capacity Price Metho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Level </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Volatility</a:t>
            </a:r>
            <a:endParaRPr b="0" lang="en-US" sz="1600" spc="-1" strike="noStrike">
              <a:solidFill>
                <a:srgbClr val="000000"/>
              </a:solidFill>
              <a:latin typeface="Arial"/>
            </a:endParaRPr>
          </a:p>
          <a:p>
            <a:pPr lvl="1" marL="743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of Renewable (Wind) on Market Basis</a:t>
            </a:r>
            <a:endParaRPr b="1" lang="en-US" sz="1800" spc="-1" strike="noStrike">
              <a:solidFill>
                <a:srgbClr val="000000"/>
              </a:solidFill>
              <a:latin typeface="Arial"/>
            </a:endParaRPr>
          </a:p>
        </p:txBody>
      </p:sp>
      <p:sp>
        <p:nvSpPr>
          <p:cNvPr id="1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Cur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acity Facto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ital Cos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ergy Value of Win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Subsidy</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rce of Wind Data</a:t>
            </a:r>
            <a:endParaRPr b="1" lang="en-US" sz="2800" spc="-1" strike="noStrike">
              <a:solidFill>
                <a:srgbClr val="000000"/>
              </a:solidFill>
              <a:latin typeface="Arial"/>
            </a:endParaRPr>
          </a:p>
        </p:txBody>
      </p:sp>
      <p:sp>
        <p:nvSpPr>
          <p:cNvPr id="1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knmi.n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hastic Analysis of Plant Value and SMP</a:t>
            </a:r>
            <a:endParaRPr b="1" lang="en-US" sz="1800" spc="-1" strike="noStrike">
              <a:solidFill>
                <a:srgbClr val="000000"/>
              </a:solidFill>
              <a:latin typeface="Arial"/>
            </a:endParaRPr>
          </a:p>
        </p:txBody>
      </p:sp>
      <p:sp>
        <p:nvSpPr>
          <p:cNvPr id="1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Load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Fuel Pric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Supplier Behavio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SMP</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lant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a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Different Technologies</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of Reliability</a:t>
            </a:r>
            <a:endParaRPr b="1" lang="en-US" sz="18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National Electric Reliability Council) defines reliability as: “the degree to which the performance of the elements of the electrical system results in power being delivered to consumers within accepted standards and in the amount desired” </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encompasses two concep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r>
              <a:rPr b="0" lang="en-US" sz="1800" spc="-1" strike="noStrike">
                <a:solidFill>
                  <a:srgbClr val="000000"/>
                </a:solidFill>
                <a:latin typeface="Arial"/>
              </a:rPr>
              <a:t>: “the ability of the system to withstand sudden disturbances.” This aspect concerns short-term operations and is addressed by </a:t>
            </a:r>
            <a:r>
              <a:rPr b="0" i="1" lang="en-US" sz="1800" spc="-1" strike="noStrike">
                <a:solidFill>
                  <a:srgbClr val="000000"/>
                </a:solidFill>
                <a:latin typeface="Arial"/>
              </a:rPr>
              <a:t>ancillary services</a:t>
            </a:r>
            <a:r>
              <a:rPr b="0" lang="en-US" sz="1800" spc="-1" strike="noStrike">
                <a:solidFill>
                  <a:srgbClr val="000000"/>
                </a:solidFill>
                <a:latin typeface="Arial"/>
              </a:rPr>
              <a:t> which include:Voltage support, Congestion relief, Regulation (AGC) capacity, Spinning reserves, Nonspinning reserves, Replacement reserves.</a:t>
            </a:r>
            <a:endParaRPr b="0" lang="en-US" sz="18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Adequacy</a:t>
            </a:r>
            <a:r>
              <a:rPr b="0" lang="en-US" sz="1800" spc="-1" strike="noStrike">
                <a:solidFill>
                  <a:srgbClr val="000000"/>
                </a:solidFill>
                <a:latin typeface="Arial"/>
              </a:rPr>
              <a:t>: “the ability of the system to supply the aggregate electric power and energy requirements of the consumers at all times”. This aspect concerns planning and investment and is addressed by Planning reserves, Installed capacity, Operable capacity or Available capacit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Speed Variation by Month</a:t>
            </a:r>
            <a:endParaRPr b="1" lang="en-US" sz="2800" spc="-1" strike="noStrike">
              <a:solidFill>
                <a:srgbClr val="000000"/>
              </a:solidFill>
              <a:latin typeface="Arial"/>
            </a:endParaRPr>
          </a:p>
        </p:txBody>
      </p:sp>
      <p:pic>
        <p:nvPicPr>
          <p:cNvPr id="197"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Farm Costs</a:t>
            </a:r>
            <a:endParaRPr b="1" lang="en-US" sz="2800" spc="-1" strike="noStrike">
              <a:solidFill>
                <a:srgbClr val="000000"/>
              </a:solidFill>
              <a:latin typeface="Arial"/>
            </a:endParaRPr>
          </a:p>
        </p:txBody>
      </p:sp>
      <p:pic>
        <p:nvPicPr>
          <p:cNvPr id="19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Cost of Renewable Technologies</a:t>
            </a:r>
            <a:endParaRPr b="1" lang="en-US" sz="1800" spc="-1" strike="noStrike">
              <a:solidFill>
                <a:srgbClr val="000000"/>
              </a:solidFill>
              <a:latin typeface="Arial"/>
            </a:endParaRPr>
          </a:p>
        </p:txBody>
      </p:sp>
      <p:pic>
        <p:nvPicPr>
          <p:cNvPr id="201" name="Picture 3" descr=""/>
          <p:cNvPicPr/>
          <p:nvPr/>
        </p:nvPicPr>
        <p:blipFill>
          <a:blip r:embed="rId1"/>
          <a:stretch/>
        </p:blipFill>
        <p:spPr>
          <a:xfrm>
            <a:off x="2035080" y="2068560"/>
            <a:ext cx="5302440" cy="348120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Subsidy Analysis</a:t>
            </a:r>
            <a:endParaRPr b="1" lang="en-US" sz="2800" spc="-1" strike="noStrike">
              <a:solidFill>
                <a:srgbClr val="000000"/>
              </a:solidFill>
              <a:latin typeface="Arial"/>
            </a:endParaRPr>
          </a:p>
        </p:txBody>
      </p:sp>
      <p:pic>
        <p:nvPicPr>
          <p:cNvPr id="203"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Value of Wind</a:t>
            </a:r>
            <a:endParaRPr b="1" lang="en-US" sz="2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o Production Cost Runs with the same amount of </a:t>
            </a:r>
            <a:r>
              <a:rPr b="0" lang="en-US" sz="1800" spc="-1" strike="noStrike">
                <a:solidFill>
                  <a:srgbClr val="0000ff"/>
                </a:solidFill>
                <a:latin typeface="Arial"/>
              </a:rPr>
              <a:t>non-wind </a:t>
            </a:r>
            <a:r>
              <a:rPr b="0" lang="en-US" sz="1800" spc="-1" strike="noStrike">
                <a:solidFill>
                  <a:srgbClr val="000000"/>
                </a:solidFill>
                <a:latin typeface="Arial"/>
              </a:rPr>
              <a:t>capacity, except that one case has some wind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ithout Wi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ith Win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wind could be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LE reduction x Cost of outag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 x 10,000 Won/kWh</a:t>
            </a:r>
            <a:endParaRPr b="0" lang="en-US" sz="16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 Design</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s of the Standard Market Design...</a:t>
            </a:r>
            <a:endParaRPr b="1" lang="en-US" sz="2800" spc="-1" strike="noStrike">
              <a:solidFill>
                <a:srgbClr val="000000"/>
              </a:solidFill>
              <a:latin typeface="Arial"/>
            </a:endParaRPr>
          </a:p>
        </p:txBody>
      </p:sp>
      <p:sp>
        <p:nvSpPr>
          <p:cNvPr id="2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ettlement for Energ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Market  (DA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Market  (RT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AP</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manag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based pricing (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Transmission Rights (FTR)</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y-Ahead Energy Market</a:t>
            </a:r>
            <a:endParaRPr b="1" lang="en-US" sz="2800" spc="-1" strike="noStrike">
              <a:solidFill>
                <a:srgbClr val="000000"/>
              </a:solidFill>
              <a:latin typeface="Arial"/>
            </a:endParaRPr>
          </a:p>
        </p:txBody>
      </p:sp>
      <p:sp>
        <p:nvSpPr>
          <p:cNvPr id="211" name="PlaceHolder 2"/>
          <p:cNvSpPr>
            <a:spLocks noGrp="1"/>
          </p:cNvSpPr>
          <p:nvPr>
            <p:ph/>
          </p:nvPr>
        </p:nvSpPr>
        <p:spPr>
          <a:xfrm>
            <a:off x="304920" y="1371240"/>
            <a:ext cx="8534160" cy="48006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Day-Ahead Energy Market</a:t>
            </a:r>
            <a:endParaRPr b="0" lang="en-US" sz="16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nding prices based on Locational hourly LMP.</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gestion Revenue paid to FTR Holders based on Day-Ahead LMPs</a:t>
            </a:r>
            <a:endParaRPr b="0" lang="en-US" sz="17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Ahead Market Scheduling</a:t>
            </a:r>
            <a:endParaRPr b="0" lang="en-US" sz="1600" spc="-1" strike="noStrike">
              <a:solidFill>
                <a:srgbClr val="000000"/>
              </a:solidFill>
              <a:latin typeface="Arial"/>
            </a:endParaRPr>
          </a:p>
          <a:p>
            <a:pPr lvl="1" marL="743040" indent="-285840">
              <a:lnSpc>
                <a:spcPct val="90000"/>
              </a:lnSpc>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constrained unit commitment and economic dispatch based upon:</a:t>
            </a:r>
            <a:endParaRPr b="0" lang="en-US" sz="17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 Offers, Increment Offers, External Transactions, Demand Bids, Decrement Bids, ISO Operating Reserve and Replacement Reserve requirements</a:t>
            </a:r>
            <a:endParaRPr b="0" lang="en-US" sz="14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not Scheduled, may re-submit Supply Offers during re-bid period for use in Real-Time Scheduling and Dispatch</a:t>
            </a:r>
            <a:endParaRPr b="0" lang="en-US" sz="1700" spc="-1" strike="noStrike">
              <a:solidFill>
                <a:srgbClr val="000000"/>
              </a:solidFill>
              <a:latin typeface="Arial"/>
            </a:endParaRPr>
          </a:p>
        </p:txBody>
      </p:sp>
      <p:pic>
        <p:nvPicPr>
          <p:cNvPr id="212"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Settlement Billing Mechanics</a:t>
            </a:r>
            <a:endParaRPr b="1" lang="en-US" sz="2800" spc="-1" strike="noStrike">
              <a:solidFill>
                <a:srgbClr val="000000"/>
              </a:solidFill>
              <a:latin typeface="Arial"/>
            </a:endParaRPr>
          </a:p>
        </p:txBody>
      </p:sp>
      <p:sp>
        <p:nvSpPr>
          <p:cNvPr id="21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ly</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Load (Zonal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Generation (Nodal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Purchase/Sales</a:t>
            </a:r>
            <a:endParaRPr b="0" lang="en-US" sz="1800" spc="-1" strike="noStrike">
              <a:solidFill>
                <a:srgbClr val="000000"/>
              </a:solidFill>
              <a:latin typeface="Arial"/>
            </a:endParaRPr>
          </a:p>
          <a:p>
            <a:pPr lvl="1" marL="74304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Zone/Node/Hub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Ancillary Services</a:t>
            </a:r>
            <a:endParaRPr b="0" lang="en-US" sz="1800" spc="-1" strike="noStrike">
              <a:solidFill>
                <a:srgbClr val="000000"/>
              </a:solidFill>
              <a:latin typeface="Arial"/>
            </a:endParaRPr>
          </a:p>
        </p:txBody>
      </p:sp>
      <p:pic>
        <p:nvPicPr>
          <p:cNvPr id="215" name="Picture 4" descr=""/>
          <p:cNvPicPr/>
          <p:nvPr/>
        </p:nvPicPr>
        <p:blipFill>
          <a:blip r:embed="rId1"/>
          <a:stretch/>
        </p:blipFill>
        <p:spPr>
          <a:xfrm>
            <a:off x="717480" y="1068480"/>
            <a:ext cx="7707240" cy="745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Settlement Billing Mechanics  </a:t>
            </a:r>
            <a:r>
              <a:rPr b="1" lang="en-US" sz="1200" spc="-1" strike="noStrike">
                <a:solidFill>
                  <a:srgbClr val="000000"/>
                </a:solidFill>
                <a:latin typeface="Arial"/>
              </a:rPr>
              <a:t>(Continued)</a:t>
            </a:r>
            <a:endParaRPr b="1" lang="en-US" sz="1200" spc="-1" strike="noStrike">
              <a:solidFill>
                <a:srgbClr val="000000"/>
              </a:solidFill>
              <a:latin typeface="Arial"/>
            </a:endParaRPr>
          </a:p>
        </p:txBody>
      </p:sp>
      <p:sp>
        <p:nvSpPr>
          <p:cNvPr id="21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Load Deviation (Zonal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Generation Deviation (Nodal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Purchase/Sales (Zone/Node/Hub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Ancillary Services</a:t>
            </a:r>
            <a:endParaRPr b="0" lang="en-US" sz="1800" spc="-1" strike="noStrike">
              <a:solidFill>
                <a:srgbClr val="000000"/>
              </a:solidFill>
              <a:latin typeface="Arial"/>
            </a:endParaRPr>
          </a:p>
        </p:txBody>
      </p:sp>
      <p:pic>
        <p:nvPicPr>
          <p:cNvPr id="218" name="Picture 4" descr=""/>
          <p:cNvPicPr/>
          <p:nvPr/>
        </p:nvPicPr>
        <p:blipFill>
          <a:blip r:embed="rId1"/>
          <a:stretch/>
        </p:blipFill>
        <p:spPr>
          <a:xfrm>
            <a:off x="717480" y="1068480"/>
            <a:ext cx="7707240" cy="745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gestion Pricing, On and Off Peak Costs and Capacity Pricing</a:t>
            </a:r>
            <a:endParaRPr b="1" lang="en-US" sz="28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Pricing and Recovery of Tollbridge Capital Costs</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sts have long been bemused by Dupuit’s and Hotelling’s historic example of the bridge and the strong case that they made against maintenance and capital costs do not vary significantly with the rate of utilization.  But what if charging a zero toll would, at least at certain hours of the day, produce such an increase in traffic that cars lined up for miles at the bridge and they made entrance and a crossing took an hour instead of a few minutes?  In that event, the short-run marginal cost of bridge crossings, at those times, is not zero.  It can be envisioned in terms of congestion: the cost of every bridge crossing at the peak hour is the cost of delays it imposes on all other crossers.  Or it can be defined in terms of opportunity cost: if A uses the bridge at that time, he is taking up space that someone else could use; therefore the cost of serving him is the value of that space or capacity to others who would use it if he did not…</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peak users impose no costs on society, provided their demand is sufficiently slight and inelastic that even at a zero toll no congestion occurs at the time they cross over.  The incremental costs of serving off-peak users are zero and may remain so indefinitely.  This is the case even if the off-peak demand grows over time and continues to be satisfied without congestion only because the bridge’s capacity is being expanded.  The necessity for expansion is imposed by customers at the peak hours.  It remains true that if one or all of the off-peak users ceased to cross the bridge, briefly or permanently, society would be saved no costs whatsoever.</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intensity and elasticity of demand help determine the level of marginal costs.  For those hours of the day at which demand ins insufficiently strong or responsive to a toll covering only operating expenses, marginal costs include only those operating expenses; for those times of the day at which demand is strong or so responsive to a lower toll as to cause congestion, marginal cost necessarily includes capital costs as well. </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30592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Settlement System:</a:t>
            </a:r>
            <a:br>
              <a:rPr sz="1800"/>
            </a:br>
            <a:r>
              <a:rPr b="1" lang="en-US" sz="1800" spc="-1" strike="noStrike">
                <a:solidFill>
                  <a:srgbClr val="000000"/>
                </a:solidFill>
                <a:latin typeface="Arial"/>
              </a:rPr>
              <a:t>Generator 2 Fails to Supply</a:t>
            </a:r>
            <a:endParaRPr b="1" lang="en-US" sz="1800" spc="-1" strike="noStrike">
              <a:solidFill>
                <a:srgbClr val="000000"/>
              </a:solidFill>
              <a:latin typeface="Arial"/>
            </a:endParaRPr>
          </a:p>
        </p:txBody>
      </p:sp>
      <p:graphicFrame>
        <p:nvGraphicFramePr>
          <p:cNvPr id="220" name="Object 3"/>
          <p:cNvGraphicFramePr/>
          <p:nvPr/>
        </p:nvGraphicFramePr>
        <p:xfrm>
          <a:off x="158760" y="1676520"/>
          <a:ext cx="8800920" cy="2292120"/>
        </p:xfrm>
        <a:graphic>
          <a:graphicData uri="http://schemas.openxmlformats.org/presentationml/2006/ole">
            <p:oleObj progId="Word.Document.12" r:id="rId1" spid="">
              <p:embed/>
              <p:pic>
                <p:nvPicPr>
                  <p:cNvPr id="221" name="Object 3" descr=""/>
                  <p:cNvPicPr/>
                  <p:nvPr/>
                </p:nvPicPr>
                <p:blipFill>
                  <a:blip r:embed="rId2"/>
                  <a:stretch/>
                </p:blipFill>
                <p:spPr>
                  <a:xfrm>
                    <a:off x="158760" y="1676520"/>
                    <a:ext cx="8800920" cy="2292120"/>
                  </a:xfrm>
                  <a:prstGeom prst="rect">
                    <a:avLst/>
                  </a:prstGeom>
                  <a:ln w="0">
                    <a:noFill/>
                  </a:ln>
                </p:spPr>
              </p:pic>
            </p:oleObj>
          </a:graphicData>
        </a:graphic>
      </p:graphicFrame>
      <p:sp>
        <p:nvSpPr>
          <p:cNvPr id="222" name="Rectangle 4"/>
          <p:cNvSpPr/>
          <p:nvPr/>
        </p:nvSpPr>
        <p:spPr>
          <a:xfrm>
            <a:off x="533520" y="3962520"/>
            <a:ext cx="8153280" cy="25905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spot price to $45 from $30 forward</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1 increases supply to balance load</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 pays the increase in price caused by its fail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222">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30592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Settlement System:</a:t>
            </a:r>
            <a:br>
              <a:rPr sz="1800"/>
            </a:br>
            <a:r>
              <a:rPr b="1" lang="en-US" sz="1800" spc="-1" strike="noStrike">
                <a:solidFill>
                  <a:srgbClr val="000000"/>
                </a:solidFill>
                <a:latin typeface="Arial"/>
              </a:rPr>
              <a:t>Load B Underestimates Demand</a:t>
            </a:r>
            <a:endParaRPr b="1" lang="en-US" sz="1800" spc="-1" strike="noStrike">
              <a:solidFill>
                <a:srgbClr val="000000"/>
              </a:solidFill>
              <a:latin typeface="Arial"/>
            </a:endParaRPr>
          </a:p>
        </p:txBody>
      </p:sp>
      <p:graphicFrame>
        <p:nvGraphicFramePr>
          <p:cNvPr id="224" name="Object 3"/>
          <p:cNvGraphicFramePr/>
          <p:nvPr/>
        </p:nvGraphicFramePr>
        <p:xfrm>
          <a:off x="152280" y="1676520"/>
          <a:ext cx="8863200" cy="2311200"/>
        </p:xfrm>
        <a:graphic>
          <a:graphicData uri="http://schemas.openxmlformats.org/presentationml/2006/ole">
            <p:oleObj progId="Word.Document.12" r:id="rId1" spid="">
              <p:embed/>
              <p:pic>
                <p:nvPicPr>
                  <p:cNvPr id="225" name="Object 3" descr=""/>
                  <p:cNvPicPr/>
                  <p:nvPr/>
                </p:nvPicPr>
                <p:blipFill>
                  <a:blip r:embed="rId2"/>
                  <a:stretch/>
                </p:blipFill>
                <p:spPr>
                  <a:xfrm>
                    <a:off x="152280" y="1676520"/>
                    <a:ext cx="8863200" cy="2311200"/>
                  </a:xfrm>
                  <a:prstGeom prst="rect">
                    <a:avLst/>
                  </a:prstGeom>
                  <a:ln w="0">
                    <a:noFill/>
                  </a:ln>
                </p:spPr>
              </p:pic>
            </p:oleObj>
          </a:graphicData>
        </a:graphic>
      </p:graphicFrame>
      <p:sp>
        <p:nvSpPr>
          <p:cNvPr id="226" name="Rectangle 4"/>
          <p:cNvSpPr/>
          <p:nvPr/>
        </p:nvSpPr>
        <p:spPr>
          <a:xfrm>
            <a:off x="533520" y="3962520"/>
            <a:ext cx="8153280" cy="25905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price in forward market</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price in spot market</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 buys 10 extra units at higher spot pric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6">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6">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Time Energy Market</a:t>
            </a:r>
            <a:endParaRPr b="1" lang="en-US" sz="2800" spc="-1" strike="noStrike">
              <a:solidFill>
                <a:srgbClr val="000000"/>
              </a:solidFill>
              <a:latin typeface="Arial"/>
            </a:endParaRPr>
          </a:p>
        </p:txBody>
      </p:sp>
      <p:sp>
        <p:nvSpPr>
          <p:cNvPr id="2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Energy Market Scheduling (Reserve Adequacy)</a:t>
            </a:r>
            <a:endParaRPr b="0" lang="en-US" sz="1600" spc="-1" strike="noStrike">
              <a:solidFill>
                <a:srgbClr val="000000"/>
              </a:solidFill>
              <a:latin typeface="Arial"/>
            </a:endParaRPr>
          </a:p>
          <a:p>
            <a:pPr lvl="1" marL="743040" indent="-285840">
              <a:lnSpc>
                <a:spcPct val="90000"/>
              </a:lnSpc>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bination of Security-constrained unit commitment and Day-Ahead Market schedules based upon:</a:t>
            </a:r>
            <a:endParaRPr b="0" lang="en-US" sz="17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Offers, ISO load forecast, Real-Time Operating Reserve requirements, Real-Time Replacement Reserve requirements and Regulation requir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Energy Dispatch</a:t>
            </a:r>
            <a:endParaRPr b="0" lang="en-US" sz="16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sed on security-constrained 5 min dispatch</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DP’s and Dispatch Rates calculated for and communicated to each generating unit on 5 min basis.</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patch Rates used in calculating LMPs for use in Settlements</a:t>
            </a:r>
            <a:endParaRPr b="0" lang="en-US" sz="1700" spc="-1" strike="noStrike">
              <a:solidFill>
                <a:srgbClr val="000000"/>
              </a:solidFill>
              <a:latin typeface="Arial"/>
            </a:endParaRPr>
          </a:p>
        </p:txBody>
      </p:sp>
      <p:pic>
        <p:nvPicPr>
          <p:cNvPr id="229"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s and Contacts</a:t>
            </a:r>
            <a:endParaRPr b="1" lang="en-US" sz="2800" spc="-1" strike="noStrike">
              <a:solidFill>
                <a:srgbClr val="000000"/>
              </a:solidFill>
              <a:latin typeface="Arial"/>
            </a:endParaRPr>
          </a:p>
        </p:txBody>
      </p:sp>
      <p:sp>
        <p:nvSpPr>
          <p:cNvPr id="2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y on energy markets. Consumers and suppliers interact through unrestricted energy spot markets. Energy spot and future energy prices provide price signals and compensation for capacity investment. Technology mix and generation capacity are determined by entry and exit of suppliers and by customer choice of desired price risk. (California, Nordpool)</a:t>
            </a:r>
            <a:endParaRPr b="0" lang="en-US" sz="1600" spc="-1" strike="noStrike">
              <a:solidFill>
                <a:srgbClr val="000000"/>
              </a:solidFill>
              <a:latin typeface="Arial"/>
            </a:endParaRPr>
          </a:p>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gency (ISO or Regulator) specifies requirements for planning reserves based on traditional planning tools. ICAP markets allow supplier to trade reserves and efficiently reallocate the  reserves requirements but the capacity market and energy market may not be in equilibrium (PJM, New York, New England)</a:t>
            </a:r>
            <a:endParaRPr b="0" lang="en-US" sz="1600" spc="-1" strike="noStrike">
              <a:solidFill>
                <a:srgbClr val="000000"/>
              </a:solidFill>
              <a:latin typeface="Arial"/>
            </a:endParaRPr>
          </a:p>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 receive capacity payments based on availability, technology, VOLL, LOLP to incentivize investment and availability. (old UK system, Argentina, Spai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Ensuring Generation Adequacy</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Markets for Countries in Database</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Capacity Price Framework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markets without price cap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alifornia, Midwest US, Philippine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markets with price cap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ralia, New Zealand, Nordpool, NETA</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ed capacity marke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ast US pool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plif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UK, Argentina</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determination</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bia, South Korea proposed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off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in theory provides most efficient outcome (mix and level of capacity), but it can result in serious market power problems and not promote MPP development </a:t>
            </a: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762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VOLL”)</a:t>
            </a:r>
            <a:endParaRPr b="0" lang="en-US" sz="18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to a customer of losing power involuntarily</a:t>
            </a:r>
            <a:endParaRPr b="0" lang="en-US" sz="22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t into energy system reliability criteria</a:t>
            </a:r>
            <a:endParaRPr b="0" lang="en-US" sz="2200" spc="-1" strike="noStrike">
              <a:solidFill>
                <a:srgbClr val="000000"/>
              </a:solidFill>
              <a:latin typeface="Arial"/>
            </a:endParaRPr>
          </a:p>
          <a:p>
            <a:pPr lvl="2" marL="1378080" indent="-228600">
              <a:spcBef>
                <a:spcPts val="499"/>
              </a:spcBef>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ed capability requirements</a:t>
            </a:r>
            <a:endParaRPr b="0" lang="en-US" sz="2000" spc="-1" strike="noStrike">
              <a:solidFill>
                <a:srgbClr val="000000"/>
              </a:solidFill>
              <a:latin typeface="Arial"/>
            </a:endParaRPr>
          </a:p>
          <a:p>
            <a:pPr lvl="2" marL="1378080" indent="-228600">
              <a:spcBef>
                <a:spcPts val="499"/>
              </a:spcBef>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planning standard of 1 interruption in 10 years</a:t>
            </a:r>
            <a:endParaRPr b="0" lang="en-US" sz="20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imated values range from $2,400 to $20,000/MWH*</a:t>
            </a:r>
            <a:endParaRPr b="0" lang="en-US" sz="2200" spc="-1" strike="noStrike">
              <a:solidFill>
                <a:srgbClr val="000000"/>
              </a:solidFill>
              <a:latin typeface="Arial"/>
            </a:endParaRPr>
          </a:p>
          <a:p>
            <a:pPr lvl="1" marL="958680" indent="0">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a survey of alternative estimates by Peter Cramton and Jeffrey Lien, 2-14-00.</a:t>
            </a:r>
            <a:endParaRPr b="0" lang="en-US" sz="1800" spc="-1" strike="noStrike">
              <a:solidFill>
                <a:srgbClr val="000000"/>
              </a:solidFill>
              <a:latin typeface="Arial"/>
            </a:endParaRPr>
          </a:p>
          <a:p>
            <a:pPr lvl="1" marL="958680" indent="0">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iability Value Relates to “Value of the Lost Load”</a:t>
            </a:r>
            <a:endParaRPr b="1" lang="en-US" sz="2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Monica Lewinski</cp:lastModifiedBy>
  <cp:lastPrinted>1999-07-15T13:20:36Z</cp:lastPrinted>
  <dcterms:modified xsi:type="dcterms:W3CDTF">2012-03-14T14:46:42Z</dcterms:modified>
  <cp:revision>343</cp:revision>
  <dc:subject/>
  <dc:title>Financial Modeling</dc:title>
</cp:coreProperties>
</file>